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13696-ECB1-4737-8B23-1C5C89FDBD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5D9C9-D6A9-4D3C-A0B2-97215261EF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2CFD7-6D80-4516-A840-ACCBB2A9A8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78D06-4EDB-4382-8E59-264D3A2B21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7F265-05C6-46A9-BDCE-896AFAB681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A6113-FD68-439B-8FB4-DCBB326D2E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5C936-5F16-48BF-9D29-A8629FF9F9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8874F-1E93-4411-99C7-FC0440F9EC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A9341-5012-4DE1-8904-D914558E8D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F7CC7-1417-476C-9EDF-4411F1F69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F6E99-ADDA-49DF-A27F-2C9E167CB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7DBA9-0A16-487D-ADE1-9E04E3F42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EC6C5-6A4F-4CEE-B42D-876984184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7E423-5F79-4B77-84AC-8566997AB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2CE31-3FB0-4F76-BD9A-2DBF309E2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73BD3-4246-4EBB-8666-5C5F5D3E7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3B4D0-7965-4840-83E3-2936F3C64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E54BE-969F-4546-95CD-BEF7A2FC3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3A78C-2D0B-4E8B-979A-EC3ABE952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B1382-FBFD-470C-9F73-360F02E93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CE531-8B52-460B-834B-003A20496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3E3DE-F2A7-4BF0-84EA-DE2AE39F3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57963-23A1-4CF4-B0F4-BA6C855A1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1EC72-6EBD-4EDB-9623-F33E74035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72B0B-6292-4169-BFA2-018A6DD46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CAE75-6155-47D0-8D87-E8612F754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1E3EB4-7B32-4A6B-87A8-67D2DF7AF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B78C35-54C8-491C-9CC8-6B3627F45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CC9767-341E-42F5-BD93-297DE2AAE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4D5703-CB57-4FED-8F8F-DF428F2BE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6EB7A4-A892-4C25-9E0A-406F478AA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C101F-0454-4C04-BB1A-330434879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FA8FE1-3455-4111-BA09-16DBB466D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6FB17F-575E-4F34-A491-A2D35A531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BB78AD-ABDC-4C44-8737-69AB61208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82FEC6-AC05-458D-AECA-3D27E6260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2622C4-6FA8-425C-ADA0-425ABB372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4280E1-C7DB-4C41-AFA5-56137D686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578C8E-CBEB-4320-BCD4-23B453A32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6F529-E3F9-4661-B26A-A1154A407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C897E-0D0F-4480-AF2B-FBEFF984B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609B9-FA2C-4F63-BF2D-D82F72437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6D08E-FF3A-46A0-919A-2A9096751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CC7DF-2059-42BA-AC07-5C8C2E912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50A3E-5958-41F0-B7C5-E8B4E1F9B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79303-5E28-43F2-85BF-C0175CE1B23B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B576D-F2FF-4A41-9A13-51C3E9906C5A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6F6A3-7715-463E-B04D-7A5026DCAAB6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828800" y="380520"/>
            <a:ext cx="54864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  <a:ea typeface="Arial"/>
              </a:rPr>
              <a:t>All About Me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828800" y="129528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828800" y="548640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y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acts About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ai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y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roth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s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y Favorite Co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y Favorite Anim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y Favorite Foo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y Favorite Things To D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en I Grow U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905120"/>
            <a:ext cx="8229600" cy="25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600" spc="-1" strike="noStrike">
                <a:solidFill>
                  <a:srgbClr val="000000"/>
                </a:solidFill>
                <a:latin typeface="Arial Black"/>
              </a:rPr>
              <a:t>The</a:t>
            </a:r>
            <a:br>
              <a:rPr sz="8600"/>
            </a:br>
            <a:r>
              <a:rPr b="0" lang="en-US" sz="8600" spc="-1" strike="noStrike">
                <a:solidFill>
                  <a:srgbClr val="000000"/>
                </a:solidFill>
                <a:latin typeface="Arial Black"/>
              </a:rPr>
              <a:t>End</a:t>
            </a:r>
            <a:endParaRPr b="0" lang="en-US" sz="8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5T19:15:44Z</dcterms:created>
  <dc:creator>woodsb</dc:creator>
  <dc:description/>
  <dc:language>en-US</dc:language>
  <cp:lastModifiedBy>Angela Michaliga</cp:lastModifiedBy>
  <dcterms:modified xsi:type="dcterms:W3CDTF">2012-11-09T14:18:44Z</dcterms:modified>
  <cp:revision>10</cp:revision>
  <dc:subject/>
  <dc:title>All About Me</dc:title>
</cp:coreProperties>
</file>