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C301-2DC9-4D0E-ABF1-611169B7B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04FF-E6C7-4D05-8E14-D0ABBC6EE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1621-BD41-486B-81C2-5CBDB260E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CE4E-FF2F-498D-B757-C5D985472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CEB0-5340-4F9B-B755-8E068468A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A249-D1BD-4B3D-8906-4FA2C5A3E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81FD-135A-476E-9DFE-77BAD0662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8AFA-A10E-4427-A71A-4D3D06E83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3520-BEEE-42DC-8D7D-BAE7E74DB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ED36-D68D-4F38-8EC0-983990D3B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081C-2013-4143-9E42-755FEF9B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7D69-154C-4BBF-ADEB-A6437BAA9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1FE4-35D9-4AF1-9007-2BFBD732B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9A2C-4D5B-48C1-B8E2-4990EC335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AFC9-181D-4B31-BB22-91F251F5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D86B-BFFD-4403-AF05-623131F5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C8B7-B722-45E0-BBE1-2F18389E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D430-2393-4C50-9FAE-4B19F11E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38F5C-7188-49D1-9E20-4CDB4F7A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DE880-AC39-4A2F-A031-91983F63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9ED1-4018-45C1-976E-DA4E5137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FB87-9A42-45F3-B97D-B719FB76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A369-32C2-4CB3-B500-4CAAD221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3B19-2270-4602-8923-F890A58B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31CF-ECAF-4F17-9E00-15DA30159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01854-88F8-4165-B866-6C0145EF1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69AE8-7A0F-4FB7-BB1C-7417FDCA5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A4747-EC31-4556-81C5-F8570B8C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641D8-7742-4B17-9797-D4C923CE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F4C24-0FBF-45FB-9BA2-6B81D9B6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CE131-A56B-4D28-8A92-66A89679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9B9E-454F-4E52-A14E-A4883C7C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5CEC1-117F-435F-8B42-C28A4E71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16C3C-E090-405F-81D7-5D1A52EC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D9086-6E88-483F-88DF-0CA8D080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50DC6-55EC-4613-BC89-339AFFE3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56662-3187-4049-8157-7B19018C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98731-6A46-4CC2-A0D4-32B13F79A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F33AC-D8B0-4B6B-BA50-668E8CFDD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7C93-9F96-4939-8D88-629FCB21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A004-C116-467B-9320-2FA56E7B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5788-6DEA-4078-848A-E8E46802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83AB-A289-4E4C-9FC8-F67927B0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00C4-CA64-46F1-A59D-BDBF07AF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FBAA-05E5-4F66-AD16-A0B8EB22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601F-140D-4C1B-87C6-B7012267592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8AAF-E096-4FEF-BE9B-976BF1732DF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C160-7FEB-456B-A99C-B72D9A4A22B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800" y="380520"/>
            <a:ext cx="5486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All About M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28800" y="548640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ts About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Favorite Co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Favorite Anim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Favorite Fo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Favorite Things To 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 I Grow 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9051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 Black"/>
              </a:rPr>
              <a:t>The</a:t>
            </a:r>
            <a:br>
              <a:rPr sz="8600"/>
            </a:br>
            <a:r>
              <a:rPr b="0" lang="en-US" sz="8600" spc="-1" strike="noStrike">
                <a:solidFill>
                  <a:srgbClr val="000000"/>
                </a:solidFill>
                <a:latin typeface="Arial Black"/>
              </a:rPr>
              <a:t>End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9:15:44Z</dcterms:created>
  <dc:creator>woodsb</dc:creator>
  <dc:description/>
  <dc:language>en-US</dc:language>
  <cp:lastModifiedBy>Angela Michaliga</cp:lastModifiedBy>
  <dcterms:modified xsi:type="dcterms:W3CDTF">2012-11-09T14:18:44Z</dcterms:modified>
  <cp:revision>10</cp:revision>
  <dc:subject/>
  <dc:title>All About Me</dc:title>
</cp:coreProperties>
</file>