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1FDA-BDF8-438D-92D0-103DA83E1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2548-780B-4AB3-ABCD-CD7D47E23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C10C-5F6D-4C3C-B36B-5F2412BF3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4F26-FF88-470F-8821-BE0D70140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3C28-BCD7-4D7E-8F58-A47E933F3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3456-490C-4E4F-A9C0-465040EB9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A623-FA7D-4A8F-ADC5-2A895ECE1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ABAA-F203-4B22-816A-F7AB7BFE4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7A84-51CA-44B1-884A-F7CCB4709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1B01-4921-40A9-823E-50F5DE700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F328-B13D-45FF-A361-438717B7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D2EB-49E1-4428-A9EF-99C2D2151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D9C4-78D1-47CC-85EF-D7EA64450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9860-E882-47BE-853A-FBC9FA74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D686-7050-41E7-BF01-E9E2E48C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2DCA-28AB-4852-AF19-E9E85755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08A6-36B0-480A-B57D-B86F66B7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1A65-1FF7-43B8-882A-D866B73C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BC29-183C-48FA-A22B-1CD44144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5EA0-42C4-4F71-A885-A9EAADA2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D58F-9A1A-43E8-A3A6-16B79E96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903D-DEB5-4116-84D8-685A3839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4E4C-FACA-44AD-9B5D-28C47CB0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A12E-8866-4E59-9E9F-E026B6B2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0CF8-C5FA-466C-A127-2E48D169F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3ED8-F215-4E6B-9737-F3C7BE432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40241-8026-436F-B18A-AE663619F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25FE7-6476-4C97-A86F-10B18457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936D9-E4F3-4BC8-BA96-C85E50A5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C0FD5-6D52-4E7E-B6A8-64C55196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0442C-7E51-4C09-9D01-16042EAF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5270-1556-4473-94E2-EBA50BEA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77BAD-B1C8-444C-B390-C24879B1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8E4E7-965C-4AC5-A855-24FD2C02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909D9-2158-4AC6-A213-B5880E1C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FDF57-A604-4836-99EE-93B8F29C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A7EAF-FFC9-45A4-BF6E-F8D8AA8E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5FB59-31A2-4613-8796-E9222594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E2AED-1825-4A68-B12C-3658A1FC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6CA6-BEB8-46FB-9503-D6AA8274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69A1-07FE-4B25-B193-41D0938B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C4B5-37B5-492A-9830-7B5B0D96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DD24-2E18-4F11-9FEA-2E7752C9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5AD9-1ACC-4566-A682-24A1CB0B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3240-7AAE-4AFF-A2D5-D86DB176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6F6D-6017-4E32-829E-DF87D3FD577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FC13-B512-453F-BC0E-621A57BFE86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A36F-36E1-44C9-9D6F-8F032240F2F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3805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ll About 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8800" y="54864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s About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vorite C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vorite Anim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vorite Fo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vorite Things To 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 I Grow 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9051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 Black"/>
              </a:rPr>
              <a:t>The</a:t>
            </a:r>
            <a:br>
              <a:rPr sz="8600"/>
            </a:br>
            <a:r>
              <a:rPr b="0" lang="en-US" sz="8600" spc="-1" strike="noStrike">
                <a:solidFill>
                  <a:srgbClr val="000000"/>
                </a:solidFill>
                <a:latin typeface="Arial Black"/>
              </a:rPr>
              <a:t>End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9:15:44Z</dcterms:created>
  <dc:creator>woodsb</dc:creator>
  <dc:description/>
  <dc:language>en-US</dc:language>
  <cp:lastModifiedBy>Angela Michaliga</cp:lastModifiedBy>
  <dcterms:modified xsi:type="dcterms:W3CDTF">2012-11-09T14:18:44Z</dcterms:modified>
  <cp:revision>10</cp:revision>
  <dc:subject/>
  <dc:title>All About Me</dc:title>
</cp:coreProperties>
</file>