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5.wmf" ContentType="image/x-wmf"/>
  <Override PartName="/ppt/media/image51.png" ContentType="image/png"/>
  <Override PartName="/ppt/media/image148.png" ContentType="image/png"/>
  <Override PartName="/ppt/media/image49.wmf" ContentType="image/x-wmf"/>
  <Override PartName="/ppt/media/image100.wmf" ContentType="image/x-wmf"/>
  <Override PartName="/ppt/media/image38.wmf" ContentType="image/x-wmf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137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png" ContentType="image/png"/>
  <Override PartName="/ppt/media/image143.wmf" ContentType="image/x-wmf"/>
  <Override PartName="/ppt/media/image144.wmf" ContentType="image/x-wmf"/>
  <Override PartName="/ppt/media/image53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09.wmf" ContentType="image/x-wmf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149.wmf" ContentType="image/x-wmf"/>
  <Override PartName="/ppt/media/image150.wmf" ContentType="image/x-wmf"/>
  <Override PartName="/ppt/media/image54.wmf" ContentType="image/x-wmf"/>
  <Override PartName="/ppt/media/image14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36.wmf" ContentType="image/x-wmf"/>
  <Override PartName="/ppt/media/image135.png" ContentType="image/png"/>
  <Override PartName="/ppt/media/image129.png" ContentType="image/png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35.wmf" ContentType="image/x-wmf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21C8-E09C-4F9F-ACBF-0CECA5BC0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AFA7-B4F9-45E0-9DB9-01113DE22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1C8E-8203-44EF-AB34-13B3900C8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6A07-150F-4068-8C68-B9F448B50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ABC2-BA91-421D-ADE9-E84185421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A05D-4071-4ADA-9CF5-817694EEF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8EFC-6977-4EA3-9F14-50622094D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0E5A-97BB-45F9-A33E-FC53E7FDD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B4CC-9D35-483E-91F7-73464B361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E43C-F2B7-4210-88AE-F4518D351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F984-8A54-4E05-8378-ECB2D0227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3D55-42DC-433F-9A64-DC7F96C09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731B-4C4A-4DE1-B2EE-708091635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1CD3-5D1C-42C4-86BA-95B96BBFD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FDAF-DD6B-4DAF-9210-2A3432103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EB8C-551C-41A2-9A86-8E0FC6D7E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DBFA-B3B9-4D33-82FE-E716A04A7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5E52-0082-4D3A-AE5E-D773771DF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8E21-604E-4F36-B5E3-37EBA4951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F576-159F-4BEB-8E97-2C4B3ABB1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C832-8B93-4D81-A782-038F1BFDB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4A73-BA0B-4B14-84DA-D693F0F2C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5E5A-BB35-4BE9-A3AB-41CEC11B5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6762-1ADF-4BE9-AFB9-743CA6601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A06A-C627-4906-8877-8A40BA5FB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1A06-0B8D-4661-A7EA-4A6E21105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FAC2-76AD-4296-85A2-0D395AB24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F2BC-B0C4-4446-9F8F-96030ED15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image" Target="../media/image148.png"/><Relationship Id="rId3" Type="http://schemas.openxmlformats.org/officeDocument/2006/relationships/image" Target="../media/image149.wmf"/><Relationship Id="rId4" Type="http://schemas.openxmlformats.org/officeDocument/2006/relationships/image" Target="../media/image150.wmf"/><Relationship Id="rId5" Type="http://schemas.openxmlformats.org/officeDocument/2006/relationships/image" Target="../media/image151.wmf"/><Relationship Id="rId6" Type="http://schemas.openxmlformats.org/officeDocument/2006/relationships/image" Target="../media/image1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3.wmf"/><Relationship Id="rId3" Type="http://schemas.openxmlformats.org/officeDocument/2006/relationships/image" Target="../media/image154.wmf"/><Relationship Id="rId4" Type="http://schemas.openxmlformats.org/officeDocument/2006/relationships/image" Target="../media/image155.wmf"/><Relationship Id="rId5" Type="http://schemas.openxmlformats.org/officeDocument/2006/relationships/image" Target="../media/image156.wmf"/><Relationship Id="rId6" Type="http://schemas.openxmlformats.org/officeDocument/2006/relationships/image" Target="../media/image1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:\Users\Sedgwick\AppData\Local\Microsoft\Windows\Temporary Internet Files\Content.IE5\VA1SBUOT\MCj04325900000[1].png"/>
          <p:cNvPicPr/>
          <p:nvPr/>
        </p:nvPicPr>
        <p:blipFill>
          <a:blip r:embed="rId6"/>
          <a:stretch/>
        </p:blipFill>
        <p:spPr>
          <a:xfrm>
            <a:off x="3825720" y="1752480"/>
            <a:ext cx="1737000" cy="1737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57600" y="22096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1600" y="3733920"/>
            <a:ext cx="13208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Angela Michaliga</cp:lastModifiedBy>
  <dcterms:modified xsi:type="dcterms:W3CDTF">2012-12-17T14:19:27Z</dcterms:modified>
  <cp:revision>94</cp:revision>
  <dc:subject>Keyboarding</dc:subject>
  <dc:title>Kindergarten Adventures in Keyboarding</dc:title>
</cp:coreProperties>
</file>