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4FB9-C53B-4868-B4BC-AF73C446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0862-6988-4B7C-AA38-FCF2A7EA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6BC0-BD38-4ADB-BCEF-BEE018C8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76ED-D28A-4CF8-AB62-BF271C24C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7099-1A6A-416B-B42C-B84E0D7B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7CDE-D394-48E3-A894-95B13664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C22-2588-4337-AA44-1D1B9290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186-8786-4F70-9DFB-7AB715D8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62E-8FCC-47C0-BBD6-9F78965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3F5-800C-4E68-B13D-3AA045D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DEA-4112-4D0D-9537-009A44A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D23-DD2F-44D4-BB2A-EC89705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976-0BE1-42F4-B20E-FF38B7F6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D05-757E-4B73-809F-1A7B797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B9A-44F1-4CE2-A6F1-AE11EB7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E93-744E-4792-AE28-CDB24A7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D90-8966-4007-96F8-FE2DC46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E71-5C69-4714-8E6B-87C06C28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D00-E629-46E7-B65C-866F9D5C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48AD-A4EC-47CB-B6A2-7F436F5B1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19320" y="541008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7543800" y="2743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600200" y="144792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2971800" y="380988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5029200" y="36576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3962520" y="13716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6705720" y="1447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2133720" y="2590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638680" y="205740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3886200" y="297180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172200" y="4114800"/>
            <a:ext cx="907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3352680" y="2819520"/>
            <a:ext cx="89712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4191120" y="41911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8305920" y="1600200"/>
            <a:ext cx="54432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4572000" y="137160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1219320" y="36576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009920" y="42670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334120" y="2895480"/>
            <a:ext cx="774720" cy="110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7696080" y="2743200"/>
            <a:ext cx="555840" cy="110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324480" y="1981080"/>
            <a:ext cx="90828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219320" y="556272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Angela Michaliga</cp:lastModifiedBy>
  <dcterms:modified xsi:type="dcterms:W3CDTF">2012-12-17T19:56:24Z</dcterms:modified>
  <cp:revision>50</cp:revision>
  <dc:subject>Math</dc:subject>
  <dc:title>Penguin Math Book 1st Grade</dc:title>
</cp:coreProperties>
</file>