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3F82-BC3E-4F0B-B2AA-EFA23D22F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7449-72A2-4196-8448-48D82FE5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3CBF-CC63-4D70-91B3-DA883CBBC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0367-E28D-400E-AC04-479E9603B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EABE-9564-489B-9407-9D1EF750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D2DD-B2DE-42FE-9F6B-0ED98139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83D0-7A2A-4654-9DA4-89CBA8D8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058-CBDB-4320-8C4B-72A3F971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E0F-F2BF-4EF1-A468-57E1316A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DEA-B692-4F6A-B6D1-BC573163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1A8-37F6-48EC-916E-94656EFB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213-2F17-469B-82A8-B37AFC6B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DF6-F510-4E49-8E1E-7D1CAFC7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E5C-F937-465D-8288-A017B399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49B-B8E7-414E-9FB1-DF3FD1DD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276-18E2-436E-888C-D25C0FF4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A66-DE41-4951-9B07-0B13DD16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3C4-26B6-474A-9A1B-B92902F1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FE9-288D-461F-BDA6-DAFC7C30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588D-80EF-4DF0-889B-844047A84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219320" y="541008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7543800" y="2743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600200" y="144792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2971800" y="380988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5029200" y="36576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3962520" y="13716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6705720" y="1447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2133720" y="2590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638680" y="205740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3886200" y="297180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172200" y="4114800"/>
            <a:ext cx="907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3352680" y="2819520"/>
            <a:ext cx="89712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219320" y="175248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4191120" y="41911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8305920" y="1600200"/>
            <a:ext cx="54432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4572000" y="137160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1219320" y="36576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009920" y="42670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334120" y="2895480"/>
            <a:ext cx="774720" cy="110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7696080" y="2743200"/>
            <a:ext cx="555840" cy="110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324480" y="1981080"/>
            <a:ext cx="90828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219320" y="556272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Angela Michaliga</cp:lastModifiedBy>
  <dcterms:modified xsi:type="dcterms:W3CDTF">2012-12-17T19:56:24Z</dcterms:modified>
  <cp:revision>50</cp:revision>
  <dc:subject>Math</dc:subject>
  <dc:title>Penguin Math Book 1st Grade</dc:title>
</cp:coreProperties>
</file>