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507F-A628-46AA-8A6B-28D3EE567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3EED-D98A-44D8-A214-1111A0FCF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8148-3C59-41DE-B150-95EC5B35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D079-D689-4D06-A9B3-FAE21CAE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575C-53E7-4204-ABCD-2AD6F64AE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44B8-800F-4E6F-8E01-17B498E35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9DFF-8ACA-4A03-A441-F93104FE1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107-2EEB-4021-BF79-BC0C85F5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657-182E-43AB-A2EB-6388B3E8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910-5764-46F2-9DA4-0D7AB6A5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696-508F-4726-A44E-6614EEA0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20B-E96C-491F-B1D0-4022D03E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329-E05A-423D-9CB6-696B9CF5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391-F007-45F0-9A15-E41CF74C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950-1C14-4F84-836D-DF644FC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06B-925F-4BED-8900-99FAC6DC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E5B-F067-4A6F-B2C5-7876C9A2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1F7-B931-4AE7-9D93-90F33E67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734-441B-4C39-9BC3-75D2B228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F8CA-B183-49F5-A4A4-9F12563935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219320" y="541008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7543800" y="2743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600200" y="144792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2971800" y="380988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5029200" y="36576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3962520" y="13716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6705720" y="1447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2133720" y="2590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638680" y="205740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3886200" y="297180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172200" y="4114800"/>
            <a:ext cx="907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3352680" y="2819520"/>
            <a:ext cx="89712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219320" y="175248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4191120" y="41911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8305920" y="1600200"/>
            <a:ext cx="54432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4572000" y="137160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1219320" y="36576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009920" y="42670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334120" y="2895480"/>
            <a:ext cx="774720" cy="110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7696080" y="2743200"/>
            <a:ext cx="555840" cy="1109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324480" y="1981080"/>
            <a:ext cx="90828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219320" y="556272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Angela Michaliga</cp:lastModifiedBy>
  <dcterms:modified xsi:type="dcterms:W3CDTF">2012-12-17T19:56:24Z</dcterms:modified>
  <cp:revision>50</cp:revision>
  <dc:subject>Math</dc:subject>
  <dc:title>Penguin Math Book 1st Grade</dc:title>
</cp:coreProperties>
</file>